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1A4C-DB26-4001-B885-4C6B3641C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EE97-CFBB-4643-877F-D01DC6EC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7EE9-511A-4B0C-849D-2E142BF7F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5E8F-6ADE-46B5-B48A-9FADDA8A1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E3F1-7211-4744-A43E-1D18D7D31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65BB-CABE-4654-A9B6-AC8674F3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7292-7DA6-4F74-81B8-4CB882A1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28DB-2603-42C8-A0F6-5AF22BCB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3F605-71DF-4838-A637-8D350B15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32C7-17D9-44AF-8419-22E854F0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6D72-F5CC-4BD3-B75F-123104F4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7BDA-7D89-4EA2-B285-4F0F64AB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6B42-F48F-42C8-8731-4FD303F0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8D33-A0B0-4885-867B-2DE2D938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1AD4-86EF-466B-8588-18FBECC8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FB8E-C204-4C52-94E1-1C1EF3302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3CC4-9107-4A49-B27E-E562AA6FD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49AD-F642-48BC-8477-ADD8A928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9E85-0441-4663-959C-5F555675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6290-B233-49E6-9C2F-E56BC0D6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83D3-45BE-434C-B22E-2D5A2078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5D43-8E37-443D-95CF-55EF7C0B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F31C-B520-4D19-9EF4-6AEEEA46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62C4-17CE-426D-BBA4-EB17A2A7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E454-9DEC-482B-A717-225853F03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A545-9EB4-4017-84E1-95FAC9A79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zolaist.org/wiki/images/a/af/&#54588;&#53440;&#44256;&#46972;&#49828;&#51032;_&#50864;&#51452;&#44288;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과학의 기원 </a:t>
            </a:r>
            <a:r>
              <a:rPr b="0" lang="en-US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1</a:t>
            </a:r>
            <a:br>
              <a:rPr sz="3600"/>
            </a:br>
            <a:r>
              <a:rPr b="0" lang="zh-CN" sz="3100" spc="-1" strike="noStrike">
                <a:solidFill>
                  <a:srgbClr val="006666"/>
                </a:solidFill>
                <a:latin typeface="태-판자B"/>
                <a:ea typeface="태-판자B"/>
              </a:rPr>
              <a:t>선사시대의 과학</a:t>
            </a:r>
            <a:r>
              <a:rPr b="0" lang="en-US" sz="3100" spc="-1" strike="noStrike">
                <a:solidFill>
                  <a:srgbClr val="006666"/>
                </a:solidFill>
                <a:latin typeface="태-판자B"/>
                <a:ea typeface="태-판자B"/>
              </a:rPr>
              <a:t>, </a:t>
            </a:r>
            <a:r>
              <a:rPr b="0" lang="zh-CN" sz="3100" spc="-1" strike="noStrike">
                <a:solidFill>
                  <a:srgbClr val="006666"/>
                </a:solidFill>
                <a:latin typeface="태-판자B"/>
                <a:ea typeface="태-판자B"/>
              </a:rPr>
              <a:t>예술 그리고 기술</a:t>
            </a:r>
            <a:endParaRPr b="0" lang="en-US" sz="31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98400" y="34290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 </a:t>
            </a: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담당강사</a:t>
            </a: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정동욱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 </a:t>
            </a: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연구실</a:t>
            </a: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서울대학교 </a:t>
            </a: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24</a:t>
            </a: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동 </a:t>
            </a: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427</a:t>
            </a: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호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 </a:t>
            </a: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연락처</a:t>
            </a: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02-880-8129 (zolaist@gmail.com)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4652640"/>
            <a:ext cx="731340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자연주의적이고 사실적인 묘사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‘</a:t>
            </a:r>
            <a:r>
              <a:rPr b="0" lang="zh-CN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보이는 대로’ 그리기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3529080" cy="2712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003640" y="1773360"/>
            <a:ext cx="352908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왜 그렸을까</a:t>
            </a:r>
            <a:r>
              <a:rPr b="0" lang="en-US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?</a:t>
            </a: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439236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재현 행위에 대한 기원</a:t>
            </a: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148360" y="1773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유희설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노동설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주술설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효험이 있었다</a:t>
            </a:r>
            <a:r>
              <a:rPr b="0" lang="ko-KR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361296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재현방식의 변화</a:t>
            </a:r>
            <a:r>
              <a:rPr b="0" lang="en-US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: </a:t>
            </a:r>
            <a:r>
              <a:rPr b="0" lang="zh-CN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상징적 재현</a:t>
            </a: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162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구석기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5724360" y="162864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신석기적 </a:t>
            </a:r>
            <a:r>
              <a:rPr b="0" lang="ko-KR" sz="1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ko-KR" sz="1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뒷장의 모아이 석상과 비교해볼 것</a:t>
            </a:r>
            <a:r>
              <a:rPr b="0" lang="ko-KR" sz="1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892920" cy="4471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flipV="1">
            <a:off x="3635280" y="1988640"/>
            <a:ext cx="0" cy="360360"/>
          </a:xfrm>
          <a:prstGeom prst="line">
            <a:avLst/>
          </a:prstGeom>
          <a:ln w="158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084720" y="1988640"/>
            <a:ext cx="0" cy="360360"/>
          </a:xfrm>
          <a:prstGeom prst="line">
            <a:avLst/>
          </a:prstGeom>
          <a:ln w="158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신석기 사회</a:t>
            </a: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727236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신석기적인 사회</a:t>
            </a: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403280" y="1736640"/>
            <a:ext cx="727236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03280" y="1765440"/>
            <a:ext cx="720108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새로운 재현 방식의 특징</a:t>
            </a: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추상적</a:t>
            </a:r>
            <a:r>
              <a:rPr b="0" lang="en-US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기하학적 묘사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‘</a:t>
            </a: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아는 대로’ 그림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‘</a:t>
            </a: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개념적 사유’의 산물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사물의 우연적이고 개별적인 특징을 사상</a:t>
            </a:r>
            <a:r>
              <a:rPr b="0" lang="en-US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捨象</a:t>
            </a:r>
            <a:r>
              <a:rPr b="0" lang="en-US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하고 불변적이고 일반적인 특징만을 추상</a:t>
            </a:r>
            <a:r>
              <a:rPr b="0" lang="en-US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抽象</a:t>
            </a:r>
            <a:r>
              <a:rPr b="0" lang="en-US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한 기하학적 양식의 발달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※</a:t>
            </a: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이후 문자와 기호로 발전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구석기와 신석기 사회</a:t>
            </a: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5157360"/>
            <a:ext cx="731340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어느 쪽이 더 과학적 재현에 가까울까</a:t>
            </a:r>
            <a:r>
              <a:rPr b="0" lang="en-US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1992240" cy="2303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851280" y="1773360"/>
            <a:ext cx="489744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관념적 활동의 발달 배경</a:t>
            </a: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생존방식의 변화</a:t>
            </a:r>
            <a:r>
              <a:rPr b="0" lang="en-US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수렵채집 사회에서 농경목축사회로 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‘</a:t>
            </a:r>
            <a:r>
              <a:rPr b="0" lang="zh-CN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사계절의 순환’</a:t>
            </a:r>
            <a:r>
              <a:rPr b="0" lang="en-US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zh-CN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변덕스럽고 혼란스런 자연 현상에 사계절이라는 ‘도식’으로 질서 부여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생산력의 증대</a:t>
            </a:r>
            <a:r>
              <a:rPr b="0" lang="en-US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zh-CN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잉여생산물이 생겨나면서 생존을 위한 일에 매달리지 않아도 되는 부류가 생겨남</a:t>
            </a:r>
            <a:r>
              <a:rPr b="0" lang="en-US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자연</a:t>
            </a:r>
            <a:r>
              <a:rPr b="0" lang="en-US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zh-CN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특히 해</a:t>
            </a:r>
            <a:r>
              <a:rPr b="0" lang="en-US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zh-CN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달</a:t>
            </a:r>
            <a:r>
              <a:rPr b="0" lang="en-US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zh-CN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별</a:t>
            </a:r>
            <a:r>
              <a:rPr b="0" lang="en-US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r>
              <a:rPr b="0" lang="zh-CN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의 운행에 따라 사회의 운행을 계획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차례</a:t>
            </a: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밤하늘에 대한 상상들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세계에 대해 재현하기 시작하다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재현방식의 변화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의식</a:t>
            </a:r>
            <a:r>
              <a:rPr b="0" lang="en-US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儀式</a:t>
            </a:r>
            <a:r>
              <a:rPr b="0" lang="en-US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 </a:t>
            </a: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천문학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선사시대의 과학</a:t>
            </a:r>
            <a:r>
              <a:rPr b="0" lang="en-US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예술 그리고 기술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403280" y="907920"/>
            <a:ext cx="2952720" cy="1797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00720" y="692280"/>
            <a:ext cx="417024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과학이라고 불릴만한 것이 있다면</a:t>
            </a: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그것은 바로 천문학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자연 중에서도 특히 하늘을 능동적으로 꾸준히 또한 체계적으로 관측</a:t>
            </a:r>
            <a:r>
              <a:rPr b="0" lang="en-US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기록하여</a:t>
            </a:r>
            <a:r>
              <a:rPr b="0" lang="en-US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그것을 해석하는 행위가 이루어지기 시작</a:t>
            </a:r>
            <a:r>
              <a:rPr b="0" lang="en-US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여전히 주술적인 행위와 결합된 형태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E.g.) </a:t>
            </a: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구석기인의 달 주기 관찰</a:t>
            </a:r>
            <a:r>
              <a:rPr b="0" lang="en-US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스톤헨지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332000" y="649440"/>
            <a:ext cx="7416720" cy="50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스톤헨지</a:t>
            </a: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기원전 </a:t>
            </a: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3100</a:t>
            </a: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년에서 </a:t>
            </a: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1500</a:t>
            </a: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년 사이에 건립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태양과 달이 뜨고 질 때 수평선을 통과하는 지점이 계절에 따라 움직이면서 도달하는 끝점과 중간점을 표시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하지의 일출 지점뿐 아니라 동지와 춘분</a:t>
            </a: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추분의 일출지점과 일몰지점까지도 표시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달의 수평선상 왕복 운동도 </a:t>
            </a: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4</a:t>
            </a: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개의 끝점을 통해서 표시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스톤헨지</a:t>
            </a:r>
            <a:r>
              <a:rPr b="0" lang="en-US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: ‘</a:t>
            </a:r>
            <a:r>
              <a:rPr b="0" lang="zh-CN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의식</a:t>
            </a:r>
            <a:r>
              <a:rPr b="0" lang="en-US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(</a:t>
            </a:r>
            <a:r>
              <a:rPr b="0" lang="zh-CN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儀式</a:t>
            </a:r>
            <a:r>
              <a:rPr b="0" lang="en-US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) </a:t>
            </a:r>
            <a:r>
              <a:rPr b="0" lang="zh-CN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천문학’</a:t>
            </a: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태양과 달의 숭배를 위한 종교적 시설인 동시에 달력의 역할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이를 건설하기 위해서는 수십 년 동안 달과 태양을 지속적으로 관찰하고 이들이 수평선상에서 어떻게 움직이는가를 확실히 알 필요가 있음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즉 천문학적 관찰의 산물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천체의 운동에 관한 상세한 지식과 광범위하게 실행된 ‘의식 천문학’을 증언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이들에게 이론이 있었다면</a:t>
            </a:r>
            <a:r>
              <a:rPr b="0" lang="en-US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? 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아마도 종교적이었을 것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3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태-판자B"/>
                <a:ea typeface="태-판자B"/>
              </a:rPr>
              <a:t>선사시대의 과학</a:t>
            </a:r>
            <a:r>
              <a:rPr b="0" lang="en-US" sz="3200" spc="-1" strike="noStrike">
                <a:solidFill>
                  <a:srgbClr val="006666"/>
                </a:solidFill>
                <a:latin typeface="태-판자B"/>
                <a:ea typeface="태-판자B"/>
              </a:rPr>
              <a:t>, </a:t>
            </a:r>
            <a:r>
              <a:rPr b="0" lang="zh-CN" sz="3200" spc="-1" strike="noStrike">
                <a:solidFill>
                  <a:srgbClr val="006666"/>
                </a:solidFill>
                <a:latin typeface="태-판자B"/>
                <a:ea typeface="태-판자B"/>
              </a:rPr>
              <a:t>예술 그리고 기술</a:t>
            </a:r>
            <a:endParaRPr b="0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예술과 과학은 기본적으로 세계에 대한 재현에서 시작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구체적 형태의 재현에서 추상적 형태의 재현으로 점차 전환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예술과 과학은 주술적 행위와 결합된 형태로 존재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기술과 생존방식의 변화는 예술 및 과학과 같은 관념적 활동에 물질적 기초를 제공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-396720" y="-285840"/>
            <a:ext cx="1000116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태-판자B"/>
                <a:ea typeface="태-판자B"/>
              </a:rPr>
              <a:t>상상</a:t>
            </a:r>
            <a:r>
              <a:rPr b="0" lang="ko-KR" sz="2800" spc="-1" strike="noStrike">
                <a:solidFill>
                  <a:srgbClr val="006666"/>
                </a:solidFill>
                <a:latin typeface="태-판자B"/>
                <a:ea typeface="태-판자B"/>
              </a:rPr>
              <a:t>1: </a:t>
            </a:r>
            <a:r>
              <a:rPr b="0" lang="ko-KR" sz="2800" spc="-1" strike="noStrike">
                <a:solidFill>
                  <a:srgbClr val="006666"/>
                </a:solidFill>
                <a:latin typeface="태-판자B"/>
                <a:ea typeface="태-판자B"/>
              </a:rPr>
              <a:t>신화적 해석 </a:t>
            </a:r>
            <a:r>
              <a:rPr b="0" lang="ko-KR" sz="2800" spc="-1" strike="noStrike">
                <a:solidFill>
                  <a:srgbClr val="006666"/>
                </a:solidFill>
                <a:latin typeface="태-판자B"/>
                <a:ea typeface="태-판자B"/>
              </a:rPr>
              <a:t>(</a:t>
            </a:r>
            <a:r>
              <a:rPr b="0" lang="ko-KR" sz="2800" spc="-1" strike="noStrike">
                <a:solidFill>
                  <a:srgbClr val="006666"/>
                </a:solidFill>
                <a:latin typeface="태-판자B"/>
                <a:ea typeface="태-판자B"/>
              </a:rPr>
              <a:t>왕비 카시오페아</a:t>
            </a:r>
            <a:r>
              <a:rPr b="0" lang="ko-KR" sz="2800" spc="-1" strike="noStrike">
                <a:solidFill>
                  <a:srgbClr val="006666"/>
                </a:solidFill>
                <a:latin typeface="태-판자B"/>
                <a:ea typeface="태-판자B"/>
              </a:rPr>
              <a:t>)</a:t>
            </a:r>
            <a:endParaRPr b="0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에티오피아</a:t>
            </a:r>
            <a:r>
              <a:rPr b="0" lang="ko-KR" sz="1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Ethiopia)</a:t>
            </a:r>
            <a:r>
              <a:rPr b="0" lang="ko-KR" sz="1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의 아름다운 왕비 카시오페아는 허영심이 강해 어느 날 바다의 요정 네레이드</a:t>
            </a:r>
            <a:r>
              <a:rPr b="0" lang="ko-KR" sz="1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Nereid)</a:t>
            </a:r>
            <a:r>
              <a:rPr b="0" lang="ko-KR" sz="1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들보다 자신이 더 아름답다고 자랑했다</a:t>
            </a:r>
            <a:r>
              <a:rPr b="0" lang="ko-KR" sz="1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화가 난 네레이드들은 바다의 신 포세이돈</a:t>
            </a:r>
            <a:r>
              <a:rPr b="0" lang="ko-KR" sz="1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Poseidon)</a:t>
            </a:r>
            <a:r>
              <a:rPr b="0" lang="ko-KR" sz="1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에게 복수를 해달라고 요청했고 포세이돈은 바다괴물을 보내 에티오피아를 황폐하게 만든다</a:t>
            </a:r>
            <a:r>
              <a:rPr b="0" lang="ko-KR" sz="1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신탁에서 그녀의 딸 안드로메다를 괴물의 제물로 바쳐야 이 재난에서 벗어날 수 있다고 하여 안드로메다는 고래의 제물로 바쳐지는데</a:t>
            </a:r>
            <a:r>
              <a:rPr b="0" lang="ko-KR" sz="1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이때 메두사를 처치하고 돌아가던 페르세우스는 그녀를 보고 내려와 이런 사연을 알게 되고 괴물고래와 사투를 벌여 처치하고 안드로메다를 구해낸다</a:t>
            </a:r>
            <a:r>
              <a:rPr b="0" lang="ko-KR" sz="1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후에 포세이돈은 하늘에 그녀를 거꾸로 앉아있는 모습으로 별자리를 만들고 일년 내내 보이게 해서 사람들에게 창피를 당하게 했다고 한다</a:t>
            </a:r>
            <a:r>
              <a:rPr b="0" lang="ko-KR" sz="1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28760" y="1916280"/>
            <a:ext cx="34164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굴림"/>
              </a:rPr>
              <a:t>고대의 밤하늘</a:t>
            </a: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7075440" cy="835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상상</a:t>
            </a:r>
            <a:r>
              <a:rPr b="0" lang="en-US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2: </a:t>
            </a:r>
            <a:r>
              <a:rPr b="0" lang="zh-CN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우주는 거대한 현금</a:t>
            </a: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2014560"/>
            <a:ext cx="7345440" cy="3645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060640" y="5877000"/>
            <a:ext cx="52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피타고라스의 우주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피타고라스는 우주를 거대한 현금으로 보았고</a:t>
            </a:r>
            <a:r>
              <a:rPr b="0" lang="en-US" sz="18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거기서 천구의 음악을 들었다</a:t>
            </a:r>
            <a:r>
              <a:rPr b="0" lang="en-US" sz="18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세계에 대한 상상들</a:t>
            </a: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세계에 대한 일종의 ‘그림’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재현</a:t>
            </a:r>
            <a:r>
              <a:rPr b="0" lang="en-US" sz="3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再現</a:t>
            </a:r>
            <a:r>
              <a:rPr b="0" lang="en-US" sz="3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presentation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세계에 대한 그럴듯한 설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자연에 의미 부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그저 상상만은 아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세계에 대해 재현하기 시작하다</a:t>
            </a: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세계에 대해 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관찰하다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기록하고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해석하다</a:t>
            </a:r>
            <a:r>
              <a:rPr b="0" lang="ko-KR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구석기 시대부터 시작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알타미라 동굴 벽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라스코 동굴 벽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58920" y="620640"/>
            <a:ext cx="748980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07:38:57Z</dcterms:created>
  <dc:creator>Woogie</dc:creator>
  <dc:description/>
  <dc:language>en-US</dc:language>
  <cp:lastModifiedBy>Woogie</cp:lastModifiedBy>
  <dcterms:modified xsi:type="dcterms:W3CDTF">2007-07-18T07:35:50Z</dcterms:modified>
  <cp:revision>14</cp:revision>
  <dc:subject/>
  <dc:title>고대의 과학관 1</dc:title>
</cp:coreProperties>
</file>